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C5B-B0BB-46B6-B2A2-4419202C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8071-3DFF-4A23-A6FE-1BD33CCE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0F02-3EEF-4353-8607-16B77AEC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44B7-AE66-4BDB-ABAB-C3188AA5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094-1F60-47BD-BD16-01F9EEE2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F105-FFCA-499A-896A-2F895A35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0C03-6B46-4ED9-87B5-F4F61AEA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AFC3-CC85-4835-B5DB-8F4EF5A5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DB03-8FA7-4D25-B49F-8387CD5B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91D5-0EE3-41EE-B936-3D7CAB3E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5AF-7784-402D-B95B-DAEBEFB7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99D-908C-4954-8180-4093D78B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3CA1-FAA3-41C6-A5C4-A80E470E0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002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cc34"/>
                </a:solidFill>
                <a:latin typeface="Arial"/>
              </a:rPr>
              <a:t>Eric Duch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cc34"/>
                </a:solidFill>
                <a:latin typeface="Arial"/>
              </a:rPr>
              <a:t>Physics of Biological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038480" y="1943280"/>
            <a:ext cx="1549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Ord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Cha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impl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be simpler than a pendul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possibly go wrong if we used tw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easily understood and ordered physical systems, an apparently random motion a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otic systems are characterized by apparently random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is determined by a system of equations but is extraordinarily sensitive to the initi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ouble pendulum is a continuous case governed by differentia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Chaos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s of particles in magnetic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rbits of the planets (The solar system is chaotic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cking and swarming behavior, some population and epidemiological mod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Cha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a continuous process, imagine a recursiv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or predicted value depends on the previous value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st to examine as a population grow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igenbau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turn to Ord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d 22 hour days for two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ed Feigenbaum’s constant, a “universal” ratio amongst period doubling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2057400"/>
            <a:ext cx="254016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haotic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odic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idemiolog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ing behavior (like flock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et or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other periodic occurrences in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mone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t beat (esp. in arrhythm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all sorts of complex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6:38:02Z</dcterms:created>
  <dc:creator>Lounge</dc:creator>
  <dc:description/>
  <dc:language>en-US</dc:language>
  <cp:lastModifiedBy>Lounge</cp:lastModifiedBy>
  <dcterms:modified xsi:type="dcterms:W3CDTF">2008-01-21T17:06:15Z</dcterms:modified>
  <cp:revision>5</cp:revision>
  <dc:subject/>
  <dc:title>PowerPoint Presentation</dc:title>
</cp:coreProperties>
</file>