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B18E-EDDB-4B3F-8EBA-5B1E346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037-A37C-4000-976A-175B8A0F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96B9-06EB-47F2-A680-38E26533F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E5D-7FF4-4FFC-81B6-2C66B354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E5FB-C1E0-45BF-81A2-0AE09EB66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9674-71B8-4671-8FF0-3348D557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D773A-493C-434A-BAB7-A997C34C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38B9-F482-4AF0-8DD1-BA00B042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0C81-40B7-428C-ACCB-210EA5A1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CB7B-A240-454B-BBCF-D1BF4DBC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6419-412F-48B2-80C6-44D0B9F2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5722-2869-41BC-A35D-9B43A639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0AEA-0E0F-4F6C-9DF5-C7CEE99E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C4E7-0BEB-4716-809E-AA861738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9F00-8D0C-4204-8FD7-B12C7E67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306C-B302-4F8F-A0F9-A7C12868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11611-2133-4E1B-A02C-2A78FD6E2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7753-45A1-472D-AEBE-509CD348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AFA1-DFC2-447F-AE2D-15F1F40D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4D5-7F13-4159-B7FF-7BB8E43B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7E79-F4B2-4DC1-8F34-61DB2992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3D19-7D52-4188-B817-3A5BEB21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0875-D0E6-42F6-BFEB-4D98D4AE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267-7827-4B09-BE3F-1D635B7D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FE16-575E-4DF7-B2A2-B533EB802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7C6-8F28-42CF-BE2A-446C5FA92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cckit.sourceforge.net/examples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chronopharmacology.de/lectures.htm" TargetMode="External"/><Relationship Id="rId4" Type="http://schemas.openxmlformats.org/officeDocument/2006/relationships/hyperlink" Target="http://www.eb.tuebingen.mpg.de/research-groups/nick-foulkes/fish.jpg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27280"/>
            <a:ext cx="7772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 Biological Clock Whose Tick is Multi-Generation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1040" y="3989520"/>
            <a:ext cx="5578560" cy="14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derstanding Biological Oscillators Through Synthetic Bi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ric Duch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pril 14, 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ussela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scillatory model based on the Belousov-Zhabotinskii reac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model reaction and non-dimensionalized equations are shown below, where a,b&gt;0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676520" y="4114800"/>
            <a:ext cx="2341440" cy="1490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4452840"/>
            <a:ext cx="350532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quilibria and Stabilit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t equalibria, there is no change in x or y, so we sol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3124080"/>
            <a:ext cx="2530440" cy="768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724280" y="320040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 (xeq,yeq)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553080" y="3106800"/>
            <a:ext cx="838440" cy="627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85800" y="4495680"/>
            <a:ext cx="3251160" cy="11764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648320" y="4419720"/>
            <a:ext cx="350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nce Det&gt;0, (xeq,yeq) is not a saddle poi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Trace&lt;0 or b&lt;a+1, the point is an attra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 Periodic Orbi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rst we need a repellor, so b&gt;a+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 we need a trapping region where gradients always direct concentrations “inward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nullclines for dx/dt=0 and dy/dt=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62720" y="1676520"/>
            <a:ext cx="2819160" cy="2350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5181480" y="4191120"/>
            <a:ext cx="36514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sic Brusselator Ide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system demonstrates periodic and stable behavior for b&gt;a+1 and b&lt;a+1, respective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b=a+1, a Hopf supercritical point, we see a nonlinear syste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perturbations, this is a symmetry breaking system – applicable in biology as well as physical models of the beginning of the univer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vi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cmp.caltech.edu/~mcc/Patterns/Demo4_5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jcckit.sourceforge.net/examples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http://www.youtube.com/watch?v=y3fSpQUc2TQ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905200" cy="3724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876920" y="4724280"/>
            <a:ext cx="2743200" cy="13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ronopharmacolog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chronopharmacology.de/lectures.htm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http://www.eb.tuebingen.mpg.de/research-groups/nick-foulkes/fish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http://angel.elte.hu/wave/fig/LAOLA.jp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0" y="3720960"/>
            <a:ext cx="4876920" cy="3137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4876920" y="0"/>
            <a:ext cx="42228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62120" y="1238400"/>
            <a:ext cx="7696080" cy="5619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mmalian Circadian Rhythm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ynthetic Oscillato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ly easier to work with and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likely to be able to create an interaction and reaction which we can mod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pressil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ussela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have the tools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0" y="4038480"/>
            <a:ext cx="35812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ioBrick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2500" t="17188" r="21877" b="23438"/>
          <a:stretch/>
        </p:blipFill>
        <p:spPr>
          <a:xfrm>
            <a:off x="1600200" y="1828800"/>
            <a:ext cx="59436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pressilat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mutually repressive genes are placed into a plasmi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reporter” plasmid is also inserted, which creates fluorescence from the product of the tetR gen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ystem is defined by a system of 6 OD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09680" y="1447920"/>
            <a:ext cx="45784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pressilator mat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s system is described by the set of six ordinary differential equations belo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0 is # protein copies/cell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lpha is the extra copies without any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epress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beta is the ratio of protein decay rate 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mRNA decay rat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n is a Hill Coefficient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unique steady state becomes unstable fo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r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and p is the solution of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3554280" cy="1025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943600" y="4869000"/>
            <a:ext cx="1279440" cy="388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2286000" y="5688000"/>
            <a:ext cx="1165320" cy="407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248520" y="5697360"/>
            <a:ext cx="112860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rcRect l="0" t="0" r="0" b="55950"/>
          <a:stretch/>
        </p:blipFill>
        <p:spPr>
          <a:xfrm>
            <a:off x="3807000" y="1371600"/>
            <a:ext cx="4270320" cy="15238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ctual Cell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033560" y="2971800"/>
            <a:ext cx="6738840" cy="35686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85800" y="1219320"/>
            <a:ext cx="312408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a-d) Cells and their progeny oscillate in time until stationary phase is reach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e) Cells disrupted by IPT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f) Cells containing only the receptor plasm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epressilator Conclus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ll lines continue to show coupled fluorescence for 95+/-10 min, as opposed to 50-70 min for normal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e,f) show fluorescence is linked specifically to plasmids and not strongly to other cell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have multi-generational synthetic biological oscillato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relatively strong decoupling and large variation in amplitude, phase and period suggest such a simple Bio-Osc is not very stable when compared with circadian rhythms, e.g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haps we need positive as well as negative feedback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7:26:17Z</dcterms:created>
  <dc:creator>eric duchon</dc:creator>
  <dc:description/>
  <dc:language>en-US</dc:language>
  <cp:lastModifiedBy>Lounge</cp:lastModifiedBy>
  <dcterms:modified xsi:type="dcterms:W3CDTF">2008-04-14T22:25:29Z</dcterms:modified>
  <cp:revision>19</cp:revision>
  <dc:subject/>
  <dc:title>A Biological Clock Whose Tick is Generations</dc:title>
</cp:coreProperties>
</file>